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86724" b="0"/>
          <a:stretch/>
        </p:blipFill>
        <p:spPr>
          <a:xfrm>
            <a:off x="0" y="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86724" b="0"/>
          <a:stretch/>
        </p:blipFill>
        <p:spPr>
          <a:xfrm>
            <a:off x="0" y="914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86724" b="0"/>
          <a:stretch/>
        </p:blipFill>
        <p:spPr>
          <a:xfrm>
            <a:off x="0" y="18288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rcRect l="0" t="0" r="86724" b="0"/>
          <a:stretch/>
        </p:blipFill>
        <p:spPr>
          <a:xfrm>
            <a:off x="0" y="27432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0" t="0" r="86724" b="0"/>
          <a:stretch/>
        </p:blipFill>
        <p:spPr>
          <a:xfrm>
            <a:off x="0" y="36576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rcRect l="0" t="0" r="86724" b="0"/>
          <a:stretch/>
        </p:blipFill>
        <p:spPr>
          <a:xfrm>
            <a:off x="0" y="45720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rcRect l="0" t="0" r="86724" b="0"/>
          <a:stretch/>
        </p:blipFill>
        <p:spPr>
          <a:xfrm>
            <a:off x="0" y="5486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rcRect l="0" t="0" r="86724" b="50037"/>
          <a:stretch/>
        </p:blipFill>
        <p:spPr>
          <a:xfrm>
            <a:off x="0" y="6377040"/>
            <a:ext cx="914400" cy="4809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352680" y="762120"/>
            <a:ext cx="3429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Gilded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Age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Politics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5248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8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22860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1881:  Garfield Assassinat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3750" t="6419" r="3750" b="9537"/>
          <a:stretch/>
        </p:blipFill>
        <p:spPr>
          <a:xfrm>
            <a:off x="1219320" y="1143000"/>
            <a:ext cx="5638680" cy="411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29400" y="3657600"/>
            <a:ext cx="2286000" cy="2819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38280" y="5410080"/>
            <a:ext cx="4648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es Guiteau:</a:t>
            </a:r>
            <a:br>
              <a:rPr sz="2400"/>
            </a:br>
            <a:r>
              <a:rPr b="1" i="1" lang="en-US" sz="2000" spc="-1" strike="noStrike">
                <a:solidFill>
                  <a:srgbClr val="c00000"/>
                </a:solidFill>
                <a:latin typeface="Comic Sans MS"/>
              </a:rPr>
              <a:t>I Am a Stalwart, and Arthur is President 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22860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endleton Act (188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295280"/>
            <a:ext cx="39625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“Magna Carta”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ivil service re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ndards for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xamination of applic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883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4,000 out o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17,000 federal gov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jobs became civi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rvice exam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00,000 out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00,000 civil service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ederal govt. jo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65400" cy="403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30492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84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6000" t="3511" r="3997" b="3511"/>
          <a:stretch/>
        </p:blipFill>
        <p:spPr>
          <a:xfrm>
            <a:off x="1523880" y="1371600"/>
            <a:ext cx="3006720" cy="403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3880" y="5638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    James Blai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01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1080" y="228600"/>
            <a:ext cx="6172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A Dirty Campa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81080" y="12193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3880" y="5654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Ma, Ma…where’s my pa?</a:t>
            </a:r>
            <a:br>
              <a:rPr sz="2400"/>
            </a:b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He’s going to the White House, ha… ha… ha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81080" y="395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4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leveland’s First Te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349280"/>
            <a:ext cx="739152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“Veto Governor” from New Y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rst Democratic elected since 185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 public office is a public trus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s laissez-faire presidenc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pposed bills to assist the poor a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ll as the ri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etoed over 200 special pension bil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Civil War veter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228600"/>
            <a:ext cx="8001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Bravo, Señor Clevelan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6096240" cy="533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he Tariff Iss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29528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fter the Civil War, Congress rais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to protect new US indus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ig business wanted to continue thi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sumers did 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85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ariffs earned the US $100 mil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in surplu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 Cleveland’s view on tariffs</a:t>
            </a: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became a major issue in the 1888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ial 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76320"/>
            <a:ext cx="8305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333399"/>
                </a:solidFill>
                <a:latin typeface="Comic Sans MS"/>
              </a:rPr>
              <a:t>Filing the Rough Edg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71800" y="990720"/>
            <a:ext cx="4002120" cy="513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447920" y="6172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riff of 1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88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600200" y="5715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666880" y="1219320"/>
            <a:ext cx="45720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The 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"Politics of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Equilibrium"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15228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Coming Out for Har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066680"/>
            <a:ext cx="6934320" cy="543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395280"/>
            <a:ext cx="7924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8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304920"/>
            <a:ext cx="7696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Disposing the Surpl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152280"/>
            <a:ext cx="8001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hanging Public Opin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143000"/>
            <a:ext cx="77724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ericans wanted the federal govt. to de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h growing soc. &amp; eco. problems &amp; to curb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ower of the tru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state Commerce Act – 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rman Antitrust Act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Tariff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d on the theory that prosper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ed directly from protectio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d already high rates another 4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p. Party suffered big losses in 1890 (ev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lost his House seat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92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600200" y="5715000"/>
            <a:ext cx="7162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again!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DEM)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57400" y="47160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92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15228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eveland Loses Support Fa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14300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President to serve two non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ecutive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amed for the 1893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ended the gold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federal troops in the 189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llman str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ealed the Sherman Silver Purchase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7920" y="304920"/>
            <a:ext cx="746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1.  A Two-Party Stale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6000"/>
          </a:blip>
          <a:srcRect l="16974" t="0" r="18137" b="0"/>
          <a:stretch/>
        </p:blipFill>
        <p:spPr>
          <a:xfrm>
            <a:off x="2430360" y="1295280"/>
            <a:ext cx="511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15228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wo-Party “Balanc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19520" y="1143000"/>
            <a:ext cx="4422600" cy="538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43400" y="304920"/>
            <a:ext cx="44956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2.  Intense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Voter Loyalty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wo Major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olitical P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contrast="6000"/>
          </a:blip>
          <a:srcRect l="0" t="0" r="0" b="12499"/>
          <a:stretch/>
        </p:blipFill>
        <p:spPr>
          <a:xfrm>
            <a:off x="1219320" y="304920"/>
            <a:ext cx="3206520" cy="6324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304920"/>
            <a:ext cx="7848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3.  Well-Defined Voting Bl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1447920"/>
            <a:ext cx="1981080" cy="91440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17819" dir="2700000" blurRad="0" rotWithShape="0">
              <a:srgbClr val="7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mocratic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447920"/>
            <a:ext cx="1981440" cy="9144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public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0" cy="4572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36232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819520"/>
            <a:ext cx="2819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outhern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eservation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uprem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thol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ent immigra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sp. J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rban work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r (pro-lab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819520"/>
            <a:ext cx="3124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whi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o-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rican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te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ld WASPs (suppo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r anti-immigra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of the midd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0"/>
            <a:ext cx="78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4.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ery Laissez Faire Federal Gov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371600"/>
            <a:ext cx="70866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om 1870-1900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vt. did ve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ttle dome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duties of the federal govt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iver the 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tain a national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ect taxes &amp; tarif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uct a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minister the annu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vil War veterans’ p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0"/>
            <a:ext cx="78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5.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Presidency as a Symbolic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595520"/>
            <a:ext cx="777240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 bosses ru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idents shoul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offending an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ions within thei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w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resident ju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nded out federal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PATRON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65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53,000 people worked for the federal go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90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166,000   “       “      “   “     “      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2432" r="0" b="0"/>
          <a:stretch/>
        </p:blipFill>
        <p:spPr>
          <a:xfrm>
            <a:off x="6172200" y="1371600"/>
            <a:ext cx="2403360" cy="304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898600" y="442440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mic Sans MS"/>
              </a:rPr>
              <a:t>Senator Roscoe Con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0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09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1:39:57Z</dcterms:created>
  <dc:creator>Susan M. Pojer</dc:creator>
  <dc:description/>
  <dc:language>en-US</dc:language>
  <cp:lastModifiedBy>School District U46</cp:lastModifiedBy>
  <dcterms:modified xsi:type="dcterms:W3CDTF">2011-02-08T20:59:27Z</dcterms:modified>
  <cp:revision>141</cp:revision>
  <dc:subject/>
  <dc:title>Gilded Age Politics in America</dc:title>
</cp:coreProperties>
</file>